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E26-2D66-4948-9E3E-71DFDCCC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A8C-25A4-4AEB-BAE6-AF07638A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79D-103E-4B6D-9B54-A7EFB489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4D5-700E-470B-BC91-6F560193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559-D9BD-40C4-8E61-FC1623A3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792-2DEE-475F-ADC6-4E4DDC7A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B2A-9AAB-4677-9BA7-D1132F4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5B1-7953-4F05-B594-E43A8134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15A-F1F7-4B9C-B9E8-CFBF51A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C74-4404-4628-A996-76D04AF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E43-C3E8-41F9-B28C-B53EB973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13F-4FDB-4C29-81F9-9E71319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A995-2CED-4EF8-83A8-EF3108A92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dad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8:33:45Z</dcterms:created>
  <dc:creator>CIEGSA</dc:creator>
  <dc:description/>
  <dc:language>en-US</dc:language>
  <cp:lastModifiedBy>CIEGSA</cp:lastModifiedBy>
  <dcterms:modified xsi:type="dcterms:W3CDTF">2010-10-25T08:45:54Z</dcterms:modified>
  <cp:revision>2</cp:revision>
  <dc:subject/>
  <dc:title>Economía (1)</dc:title>
</cp:coreProperties>
</file>