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C405-02D7-4730-96CD-B3300CFF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CF1D-B25D-4FB1-8B96-0F426449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232-EDEE-4330-B818-55EE8768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0798-4193-46B0-AA36-AE08A5EE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EFAB-A56E-4420-87A2-18CAD30A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3A58-D5D5-4F34-85F4-B4E7E198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E465-FFF3-440E-88D8-85B60780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EF52-05EA-405F-A5E3-F84CD64B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2F7-ADE0-4CE7-8D4A-66471FC8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64EE-579A-4E41-90A9-7F4DA792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6930-05BD-48FF-A95A-37E37131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C70-EC1E-4558-9E69-9510C54F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8FCF-540F-4C07-89B2-6306F26D3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dad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5120" y="25844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an es agricultor; cultiva sus tier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653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PRIM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e recursos de la natura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83280" y="2492280"/>
            <a:ext cx="23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a la semana va al mercado donde vende sus almendras peladas en un pue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4627440"/>
            <a:ext cx="30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SECUND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a los recursos extraídos de la naturaleza en productos elaborados o semielabor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2637000"/>
            <a:ext cx="30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ués de recoger la almendra, las p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465300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TERCI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ye los productos elaborados o semielabor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actore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5120" y="25844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an es agricultor; cultiva sus tier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653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PRIM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e recursos de la natura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3280" y="2492280"/>
            <a:ext cx="23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a la semana va al mercado donde vende sus almendras peladas en un pue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0560" y="4627440"/>
            <a:ext cx="30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SECUND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a los recursos extraídos de la naturaleza en productos elaborados o semielabor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2637000"/>
            <a:ext cx="30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ués de recoger la almendra, las p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465300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TERCI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ye los productos elaborados o semielabor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8:33:45Z</dcterms:created>
  <dc:creator>CIEGSA</dc:creator>
  <dc:description/>
  <dc:language>en-US</dc:language>
  <cp:lastModifiedBy>CIEGSA</cp:lastModifiedBy>
  <dcterms:modified xsi:type="dcterms:W3CDTF">2010-10-25T08:45:54Z</dcterms:modified>
  <cp:revision>2</cp:revision>
  <dc:subject/>
  <dc:title>Economía (1)</dc:title>
</cp:coreProperties>
</file>