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F7C1-100B-4690-97FC-5992F03F8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7518-0646-41E5-9A15-32DBF14E0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27E7-E43B-47DD-838C-8C6122C78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44F5-26C9-4A8B-AD9C-F42973DC1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1EE8-D6BB-42B3-A84C-EDD992AB0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D7C9-E4CC-48BB-8300-56402532E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A813-22BE-49ED-A02F-16A912F60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AD13-D6A7-45E1-B466-254C2B946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CDFC-D397-4FE1-A2F2-8A5D6040E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4E3C-3F07-45E5-A65D-D6D77606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F725-65C6-4F7A-862A-8D24AB5D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84A5-4E41-41E9-B8FB-3B4457A5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89DE8-F101-42C7-9BDD-426022052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dad de p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35120" y="2584440"/>
            <a:ext cx="218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an es agricultor; cultiva sus tierr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465300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TOR PRIMAR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ae recursos de la natural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83280" y="2492280"/>
            <a:ext cx="237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 vez a la semana va al mercado donde vende sus almendras peladas en un pues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30560" y="4627440"/>
            <a:ext cx="309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TOR SECUNDAR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orma los recursos extraídos de la naturaleza en productos elaborados o semielaborad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59280" y="2637000"/>
            <a:ext cx="30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pués de recoger la almendra, las p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0360" y="4653000"/>
            <a:ext cx="309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TOR TERCIAR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ye los productos elaborados o semielaborad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actores de p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35120" y="2584440"/>
            <a:ext cx="218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an es agricultor; cultiva sus tierr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465300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TOR PRIMAR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ae recursos de la natural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83280" y="2492280"/>
            <a:ext cx="237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 vez a la semana va al mercado donde vende sus almendras peladas en un pues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30560" y="4627440"/>
            <a:ext cx="309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TOR SECUNDAR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orma los recursos extraídos de la naturaleza en productos elaborados o semielaborad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2637000"/>
            <a:ext cx="30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pués de recoger la almendra, las p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940360" y="4653000"/>
            <a:ext cx="309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TOR TERCIAR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ye los productos elaborados o semielaborad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es de p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08:33:45Z</dcterms:created>
  <dc:creator>CIEGSA</dc:creator>
  <dc:description/>
  <dc:language>en-US</dc:language>
  <cp:lastModifiedBy>CIEGSA</cp:lastModifiedBy>
  <dcterms:modified xsi:type="dcterms:W3CDTF">2010-10-25T08:45:54Z</dcterms:modified>
  <cp:revision>2</cp:revision>
  <dc:subject/>
  <dc:title>Economía (1)</dc:title>
</cp:coreProperties>
</file>