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E91-104F-425F-87D4-52B304FA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336-6912-468F-BDFF-BC91D849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E73-618E-43FC-A464-CFEFE614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0F7-10A1-4DC7-A36C-8213BD28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D60-98AF-4613-B216-9CFA53D8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C21-EF10-450A-9AF8-8FA82C13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26B-DE3F-4A04-8136-F59E94D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7C1-DAFD-470C-8FC1-4B628F3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2DB-66F5-48E9-8AA4-426C269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CB-9936-4801-853B-264D724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F60-A044-4C66-A061-A1D1470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5B8-033C-4302-9FCB-52BABC0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874-253A-4985-BE17-5F45AFD81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5120" y="2584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es agricultor; cultiva sus tier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PRIM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e recursos de la natur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3280" y="2492280"/>
            <a:ext cx="23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a la semana va al mercado donde vende sus almendras peladas en un pue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62744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SECUND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 los recursos extraídos de la naturaleza en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2637000"/>
            <a:ext cx="30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ués de recoger la almendra, las p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65300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 TERCI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ye los productos elaborados o semielabo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8:33:45Z</dcterms:created>
  <dc:creator>CIEGSA</dc:creator>
  <dc:description/>
  <dc:language>en-US</dc:language>
  <cp:lastModifiedBy>CIEGSA</cp:lastModifiedBy>
  <dcterms:modified xsi:type="dcterms:W3CDTF">2010-10-25T08:45:54Z</dcterms:modified>
  <cp:revision>2</cp:revision>
  <dc:subject/>
  <dc:title>Economía (1)</dc:title>
</cp:coreProperties>
</file>